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EC4-115E-4490-9A25-1C046828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049-DB8E-4730-8517-4D06B9D6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F9C37-9FEB-47EA-92AB-11A4AD3E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89FE6-32E8-4E38-9129-B891EFB9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97175-4076-434E-989C-31A769E7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78317-5C71-4700-B2EB-C95E19F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5F6EE-D914-48E5-8222-3EEC43C3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739EA-8AB2-433D-AC05-F55474F8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B828D-06F7-4855-965D-2EC92894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29CCD-C27B-4413-9164-D61301AD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435C5-9AB3-446F-8687-0D817E83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BC478-824F-420A-9549-A1A999E4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929-8122-4186-A5DE-1765939D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81BD4-E440-440E-9A39-A586DBAD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0C39F-0E68-4895-861A-6D528FB5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D6E2C-D06A-4A7B-A27B-427692B9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435EB-E2F6-4599-9042-4B4E8D09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0E6BE-AB4D-4212-9594-9E21D4B7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0E84F-41F6-467B-A32A-FB869399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1CDDF-5CB5-49F3-804D-534943F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733FD-4C22-406D-BD8E-67F6CD9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E363B-9493-471A-A563-7149C54F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8E8EE-7A5C-4BB1-A661-18635D58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576-9F64-4251-941D-1DB60EE7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839CF-D518-44A7-8846-3DE46B89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5323B-3F68-40D4-843E-B7946EBE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97119-6B51-4A38-AF9E-FEE03599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4211A-A29F-4D3C-8292-B2F2DCC9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37674-7B8E-4739-B8E8-8D2A178D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6FBEB-439B-49D6-BE86-34D0A847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28F71-E197-45E8-BF9A-B4416548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74B04-FE71-4100-9610-4A2441FF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23425-CCF6-43E6-9D58-793A8065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BAD63-6CD5-46DB-B53F-2654FCA4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FDF1-AC11-4B50-9CEF-6833C0B9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2BB7B-6825-4CA9-A3EB-02BE65E2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92050-A40B-44E7-8717-8BFD79D2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95377-D499-4878-B585-234A4AE6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9E826-FAB1-4CA3-93B5-0231A4C1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BCDB7-7655-4DD3-85E6-785838C7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1A9A5-AD04-4460-94EA-082B8A05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CDF34-C497-41AE-8D78-0BF312B9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45EF2-31EF-41A3-9957-2B86013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73C05-23B4-4A60-B335-2D70DE17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44D34-A5EC-41C4-86C8-AC123CAB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93D6-D88D-4B66-8477-968F7393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590D3-DF03-446A-B0FE-3738D7BD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8CCBE-3DB7-45D7-BA16-1FF20A5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858A8-F511-4A86-8EE8-26B2C8F3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C3C44-877D-40B8-9F4B-B5995C60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ECC3F-D19D-4999-B657-0EDAE30A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EA4C3-33C0-45A1-B39A-08E99129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A4CE9-E8C3-402E-B862-E7C0BBFD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BA2E3-EA01-4BDB-85C7-A07BE8E3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47277-72C7-4B90-80AC-B002EE0A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B5168-D5C7-4AF6-BE1D-BE40F890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C355-FF3F-4F13-AFD7-97FD19DA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66D95-22FE-4A70-B0CA-26D1362F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01D11-62BB-43E0-BBF1-83C31BC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31124-915A-4079-A905-7F8A056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ADD3E-AD10-4910-9D20-AB69E28B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17B90-D451-457D-AC61-6E75122D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38A45-8B76-4BEB-BC22-DB50AEE8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2415C-E2C3-4FFA-A924-65512293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B5BD2-05F4-431E-9A24-BB8B7358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A3BE5-1A18-4625-AE83-71A72506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79D91-E46F-44A2-94CF-2CC45EC8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8433-79EE-4A0A-9952-84C4DAA7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FF7B4-94EB-4874-B876-B08506C8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69B46-5D76-44A6-B185-FCF19545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496B0-AD9B-4BCF-9940-DE07C380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CB406-5CB5-4361-83BA-7C757F82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1622E-8A02-4302-B6CF-E0B84D55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35F5C-2DA4-4731-B77C-27742D84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CC691-DB9D-480F-9BD2-4BC285F2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705C6-1AC5-4B59-AD28-7E226A5E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6C23D-26D0-4A1A-8168-EC7DB26C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4AB76-DD60-4A18-ADD7-3AC3FFC5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5BFC-FC74-4E72-B35C-FBF2D51F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28B22-C712-44AC-9A1F-F29DC8A3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D747C-2D07-44F7-89B8-291812AE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2072E-C055-4EB0-8041-DADDE2AB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C074B-BF61-4223-9EAF-2E16EB25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0C36E-1BC4-4E50-98F7-1C1D7AE1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BB92F5-585E-46F6-BC7C-316863A6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FFAA2-41E8-42B1-A80F-901C909D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8380B-7153-4EB6-9A53-C6453BFC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84C63-96C3-4E9C-99E3-91913339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6F00F2-AE27-4121-910A-E61B9271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E87C-59F5-44EB-AF20-F974A97B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3F6B9-51BD-49F3-8E5A-71C7D173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CBB03-EE7B-4866-8110-FA5D390A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F8C8F-FD9F-4661-8E03-F7F3DD04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35296-038F-4C84-84CA-99824BD8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7812C-0381-4AA1-BC17-D8B06681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960EE-5EB1-40F9-B45B-43A4FE6E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32FE2-C066-4C75-8D1A-14BBC1E2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BE433-7891-4D1A-9399-6037B31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B1C2B-EAE1-406E-AE8B-BF84142D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7DEEB-EA06-4FF2-B18A-95EC642C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4247-F9D3-44D1-9EB1-800EEEA3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F7CEC-1A76-4CC4-A020-C7D691F7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2065B-AB6C-4F96-AB31-0D88F751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E91AF-849F-4BD9-95DA-7B87398D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53BDC-42D6-40E7-8AED-36FC0700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1456BC-4AB7-4738-8385-8A7697FB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D6BD7E-7CA5-4318-BDD4-DFBE0F02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67910-B889-400B-9C26-58479174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44ADB-97BC-4840-B7BD-9ED97053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0A632-6B48-40EF-B962-0F915C5B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F1A0F-07C6-4700-AB62-AA0272B9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4FF-8592-40D6-8A43-528F0025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D1ED-A243-4AF4-98B9-4D68F6F8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8DF57-4D0C-4805-8F32-C5DB67C5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39970-A684-448B-90A7-3495021E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EA7E2-A85F-4672-A1EF-61ACC625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E0FC61-C7DD-4FE7-8F92-4E208C04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F98B4-724D-412E-91F8-BC9C3CA3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FA9DAF-1CF1-4A0B-9ECF-0E942987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BB7874-BBA3-463F-B986-2BC41BC5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E8280-B303-42E4-A89E-3EAF6A9E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C2BB9-7F3C-43E2-B7AE-5110EB69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20D5EF-D554-4571-A786-F973589C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9A1D-93F7-4A90-8DC8-DBF4C157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8DD2F-B0A3-41E1-B31E-7AD540C9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B5F54-0E16-40C3-92A3-41B3DA7E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881544-9F28-4400-9647-D4B61122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E5442-258E-462A-99E4-6773CF70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73032-3FC4-41F2-8172-06CD6A6A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FEC77-9906-44D4-9B8A-BA53D7A0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F13A7-889A-48FD-86C2-2CB82BF7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C6E147-65B7-4BE6-8F55-AD00BC50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D5A4C2-0697-4EF1-964D-3B2712BB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D572B7-BFC1-437B-8A3C-4B486107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328E-8139-4E81-977D-8CF2D65D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20D482-33EC-4DFB-89DD-9B9B9BD9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A8682-BDCD-4F75-85A4-C3CCCB86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4EFFC-405F-4076-AE14-2B2E5573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E840D-F0B6-445E-95ED-B716C17E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F18490-0C5D-4FA3-B188-9E8F6112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C28B7-0FD7-4299-982A-35F847F5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FD9B8-B8A7-45C5-83F4-B44ABFBF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01DC5-6788-47DC-9E02-441D86BB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F2B90C-9FB7-43ED-BCFA-44829663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B8C52-D857-4081-A282-5262F31C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F3B4-8B1A-428C-A1C3-7DFDE133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4BFCC6-62F7-44A6-8E3A-8051847E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A56F8-C61A-4E3D-918C-71BA1FF9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4F548F-C88F-4AD6-967B-4A5332DF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6FA159-D900-424A-95BF-3491D852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06BE88-A37B-451D-8428-1713FE54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526CA-B81E-48A8-86B5-7EF906F1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2D07C-6419-4866-B194-4B508D6A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9A98E2-DB2E-47E0-83FB-7BAA319A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35101F-D87C-46C8-A52A-2727FC00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EC5F8-A09D-4923-90F7-EF5B88C4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BEB9-9064-469C-9769-0940A96C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3602D-CF80-4130-8175-545CEC13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8DD134-1D11-4F19-AEDE-03981C9F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4BCA3E-5133-4023-8FBE-E988FAF6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D61F94-1443-4BD4-BD3C-8B812303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349A64-63B8-4EEB-8517-0E21F640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994D98-F9F1-45DA-83C5-6D59F7E0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1F418-6191-473F-9B4E-2C425EA3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D50C6-247E-4673-89E1-F71CCAF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3A8196-6CE5-451A-9FFE-4EFE0989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D819AE-3FDB-4DFC-8612-2B8F143E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FF382-2520-47F5-8279-A1F5A5DD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8913F7-1844-401B-B465-DC897B6C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FC8BCB-0782-454F-9AC3-B541406F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1A562D-8DA5-478D-B134-870E5A4E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733EEF-2B32-4737-9C87-D338B300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D50334-7739-44FB-9346-43858870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D26F33-3816-4CA6-8B06-2740AD32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BD5AD2-5FAF-4054-9303-C32E2250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2BFED6-8333-4EEB-8A43-BAA02FDD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C90FD6-2CDB-4AF3-AE2D-2CEAF5FB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515144-760B-4F4E-AC13-908F569F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16D5D-EBE9-40CA-B71B-58079A14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B5B001-F02F-4342-86E4-6D01D068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CE380-EFCB-4F54-9FE8-B160E9B6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F1F78A-A44F-4FD2-B300-C6F0814E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6572B0-A18A-4B38-A83E-CB8662D3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AC11F2-0B8C-41FE-AB05-5AE8FDDB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22C3DC-E7DC-4F67-BCC2-EBA122AD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ADF440-510F-472B-8B0B-560BD727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A6D4D5-E6D8-4769-9B18-B1C68793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2273F7-CF68-4BF0-8A03-C3EAFBBB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3729FA-BBC6-4ACC-9C53-3A6DE5B0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E904-0FF3-454A-942A-86E3A4C8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E896D3-C180-4DB5-8743-EBC03B36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CBF272-610D-499D-996A-7668254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002FE4-BBF2-4B08-9500-12C314F6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E4DF42-EC26-44F2-86EC-A4979D2E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73E9B8-399A-40D7-BC32-93C37EC8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B1FD72-B4A6-4151-ACBC-905FC5DD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4A3B99-6D43-47A3-8C3C-DB891602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A04EC3-C7AA-4E4C-BE75-31ECEDB2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4DF60D-BBC3-43A5-BCD2-822706F2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99D860-F2D0-4E40-8B63-FC8DF1BC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1D97-20F6-40F6-8B85-AEB1BB41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D3AECF-F86A-40F2-9CE8-49923781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E87CC7-C586-4C0B-BC88-E9426D4E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245632-64DF-47B6-9C27-EB4B4848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8EF9F7-B2E9-487C-B513-D07756DC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95F065-08B8-4E46-9A9D-529D73B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F119C5-3A89-416C-BB84-A090F0F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74CAFC-B332-43A9-8004-9D386053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747A75-0B04-4563-A013-EE26B207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01C3FA-0231-4163-80E5-A22806C9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D4406D-D143-43B2-ABB0-F2AD153E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6393-BA5A-4147-8C2B-08099E26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756F00-8C1C-4498-AECD-75AB4AE2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073CAD-79B1-4387-AE5B-F5A10521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FA7373-CB69-43B3-8DF2-715C4499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516C02-0EC8-4E33-9173-8B27B210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FE7977-E974-4929-A108-DB54146D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8E202B-7F95-488A-9357-5EB888D2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085269-3BD8-4877-BE99-4CCCA812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55CEAF-20BE-4688-958F-BB9D016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7A31A4-8DFE-41EB-ADFC-A423CE09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28CE3A-29FD-4A91-98AE-252279B8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F3D-01AA-401D-958B-73C0CE7A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19EA-1867-447A-A615-9394184F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4CE133-3271-4411-8EA0-EE94E187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C27FB2-D287-443C-8B47-A078386B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186460-A71A-4914-9175-511A7F33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955627-DD99-4801-ACC3-D68926D2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37A8A2-BB55-4F0A-B72C-2A1EA86A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9CBD18-DF3E-4408-A2E0-0A22672D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5424C1-3554-4847-AB35-6F7299AC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623D73-481A-4706-A7CA-ECBAF31C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172210-6FF0-4DD2-876C-9B9C153C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C928ED-B2E0-476B-ABB8-1278D151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6987-8747-44BC-86AC-B862102E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078CFF-81CA-4485-B7C5-89FD3E48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91D6E1-7C8D-4055-95F4-9382344E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FE8A82-1A3B-414A-9076-173505C1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187459-12AA-4749-BEE4-61A4E910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A28406-FED2-4696-9E5C-230A1C26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2BE37A-5800-4001-AA55-460A7B1E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AB39AA-FFF9-4F84-A756-551B9C31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659E5A-D358-4CB6-95D0-898C17E0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E2EC76-5411-4DF7-B730-F238CA15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3148E2-C51C-4EFF-82E1-33F2515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135D-DBAE-4E89-878C-81E7FF90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235C9B-AB96-4C03-8BF8-7E53BB0C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C250BA-51F6-4D02-A475-72C6780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3DFD96-5173-40D8-B161-EA18D056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8E8FD0-BB8D-4A25-BFEA-1C6B7363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76397A-0605-48FF-BEC7-9A1E702C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629652-51CC-4BC6-A3B6-19EDA57B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F03EEF-B6EB-4B95-A5A2-B284973C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B16A0E-A9AE-4ADC-AA8B-23C134EF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EC1104-902C-4D43-9223-5A690B03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99CEAE-7996-453A-BB6B-FED7DEAF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9B33-3A18-4169-AE6D-EDB701E1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40FAB5-220D-42F0-BC5B-3F9EE854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A9D68B-BCC8-42A6-AEEF-8537DC80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20813C-6B98-4811-AE7A-1AB337CC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5C50EB-7130-4F96-9EF0-0E95AF8F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2DD58C-1B39-4FF6-873B-84CEAA01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ED21D5-7A3A-45C8-AFD7-513EF444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2CCA2D-C139-4CEC-9B58-4E131789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852848-8F6B-4E74-8B98-CF5841EB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918A13-63AE-4456-AC4D-2A71F855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700FA8-52B0-4E5A-A75F-8A537E1E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58AF-5EA2-4046-8766-5A3B7188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6A1EBA-3DDC-45C8-A965-49C05A95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663280-D4B4-45AC-98AD-C3A01ECD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52C9E0-90D8-4A09-AA40-24DD4DF3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A7CEC9-E641-48AE-B340-C0B050D6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04D2B6-C3F8-4776-9A0D-392F8105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DB50F3-C475-4642-9B15-DE50D98E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63D5D0-FBD9-479D-B8B6-2A874360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B44CDA-B0EC-4FE7-911E-91490407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B144B1-702F-4696-A8C2-5C5B00C0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0C3E04-C87E-4A3A-8C1D-34E640A9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42DA-94B5-438E-BFE3-559FED50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A2D735-0DBA-4B06-B2C7-1CD7AD64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0C82C8-BDBE-411D-980A-C28B2E01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D90E1D-946B-464D-8546-01A73BBF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D6ADE1-AB68-4B27-9285-B2F20C1A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F3FDE4-89BC-477F-B8C8-59FA67B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6FA967-52C2-4003-A701-C0656EA0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D94A80-C8C2-41EF-BD46-3342360D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6AA7B4-CE87-4565-957B-CB0ED04C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5D73C5-340D-4706-AD07-6905B0B4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E2288B-6EA1-4F05-AD92-6FB2070D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CE1D-4D8B-415A-A298-B35E8DC2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A3B82B-8D8F-4856-96EF-7961B6DB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6E3A97-2E7C-489E-B317-24C3D84A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A42C2D-DC6B-497D-823C-2790308A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A8692B-6DE3-4CA9-81FD-62ACE1C5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696F3F-5F02-464E-8CF3-72BB17D6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795444-4290-43E0-989C-5FC4C478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532927-2FD6-43D1-AB33-A7496C22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5659B1-5A74-4946-BB0F-6132E48F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2347CF-3E63-4904-9A8E-EA74244A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57ED18-856F-46F2-99D3-A948FCAD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45763-9A74-4BEB-AFC5-4AE36022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9ECF89-4B17-492F-AD12-BD523C79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6D12A9-4759-4081-AADF-7A016322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12A031-0A5B-4A1B-82EB-5AF57A4A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D77A0-76AA-4B16-9742-C6D7F7E4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E5052-2E0F-4CAC-B89A-2833ACBA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BDF-8CBE-4395-B2F2-11782AFE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2066-76B0-4A1E-9603-8763AB0C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8BEF-D4C9-41AC-9471-65748077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CF6C-B728-472E-80C5-5DCE226A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DB841-6B06-4562-AC69-6A915D38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82DC-6CD6-4D19-86D7-05E69F80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47478-911F-425C-8EEE-C4FA5B25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0A5F-DF7E-4172-AB92-D20565B3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203DD-BB9A-4C24-BF17-BE8BAEC3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ACFE-3479-4EFE-8F2E-68412EE0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D8422-5C55-447C-8D4D-31284533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0F9-4201-4987-87AA-D91F6A5F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3467D-215F-45ED-B955-A946B646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6431C-98F3-47EC-8E1A-6C686CD6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C7696-D149-4E24-B5E6-F17BC90E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3CD7-8B7F-4A3C-9C33-39E58D55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E582C-69AA-4317-8688-2AF1FAA2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6E302-1233-4300-9546-3169276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F20B7-F123-421F-8012-5651106E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63C07-6CAA-40F7-BD1F-4DD9029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13D42-9FA2-4B7F-99BD-60A49238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FF1E1-08E6-4FE4-914A-50A48F7D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08A-FDDC-4C2D-8D71-FF1B19CD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0178E-DDCF-4BBA-A955-6EB80B66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5F50-3AC0-497E-BA5C-B485A651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C1B3D-F3B8-4918-A61C-C1E9E6A4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F9624-DA80-4DA2-A379-21F384FF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E0C87-9617-4708-9A1C-E40AF8B6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B83E9-5C86-4568-97CC-6E7E2E1A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8D35F-50AE-4F65-BE4E-30893AB4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F5823-CF50-4ED5-9A67-2597D5D5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FF220-D73C-403F-9ABF-07E824EC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2007F-7D3C-47FF-AB11-F6ACF4FB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4BA-F9BF-4EC7-961E-F20B2B77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8BCE1-130A-450A-9B34-FFBA2574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00429-751F-4499-9CD1-E6996DB7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1681F-BBE0-4E58-971B-F5CF43F6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69574-B18F-4758-A418-3F623017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11E2C-5554-48FC-8292-91568F76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A887D-1DD5-4977-9738-D856048F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A229-3C96-41BE-9294-FE20C73A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AAF38-C9E4-41B5-960C-8B16821C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98439-2F90-4495-AC32-56BFF8D4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9B1C5-E788-445B-8EFE-335B040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2BA-0B3F-4069-96B1-D762D0F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C7A2A-E322-4B16-A332-59228681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C8920-B497-45D1-8F41-E0A6540F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0BD0-2481-4A9F-B9C5-6D146770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3264A-4516-4ED8-BEB1-48E1CFA7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8391D-EC92-4D4A-8822-D2D0F30D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EE953-221E-4299-B8D9-DDEA23BF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D27C4-6D2E-4AFC-B7B7-3AE7D400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8B421-DF08-4243-972E-E37E4E68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38C92-776B-4F96-9DA0-D4DFCC74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9FDA0-2352-4632-BA48-E71B1314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02D-93F9-436C-95FB-E5A5A4B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A32AA-6168-4480-8AEA-D4703345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C5BC2-1000-4147-93B9-1D32AE5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68EDA-A1EA-4816-B334-B9657E37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F11BC-D382-4CBE-9948-9F75400D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A626B-D8B9-4008-A82D-43F40775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0B73A-F2FA-45C5-99EE-6A885E9D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ED2BD-0538-4266-A9AC-064E5D33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25486-BF42-4864-8F04-666AB5F3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C90B8-2F45-4077-A3B1-E5F26F0E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F968C-DE57-49A3-BBF8-E92B919F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E0D2-4482-4A7E-821F-3EE1843855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0FDC-B565-4616-B17B-A661289100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2EAC-27B6-4AE9-B1C1-AB1AD0A1F0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03FE-8AEE-499C-B2B2-B93BE77E2E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9F70-7144-4864-A1B7-5B4398E90B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1825-F174-4138-AF07-A59BD7F277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AF79-238C-4A2A-B32A-EE07A3D010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86BA-2DBA-490A-88E0-EB002CC290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36B9-9CE6-4419-86CF-BD3AC2583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6F99-C78C-48CD-8157-E54B01DD6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295C-6E2D-4576-9EC4-7B1553FCF2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152F-0CA0-4226-9F56-53DF739F60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646B-A380-4ECA-89DC-548561380D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CFEF-E254-4971-AF06-9F4D3D015D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EBFE-0EB8-4DF9-BD82-233B37D616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B8C1-5505-4500-8544-EEFBC227B7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6D0A-01A7-4C35-83A3-77A72BB561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47A8-72E9-4F58-99EB-CFC93F97A7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B561-874F-4B10-93C7-7F23438ED9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0D18-8088-49A6-BEE4-A983146774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F227-5162-4455-9588-72A67958D3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8B22-952B-434B-9ADF-4BE1F3A33D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5533-41F8-4A18-8F4F-C3B7914EF7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6D1E-82E9-47B4-A4F4-D64F8E9D32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C049-6C33-48FB-A51E-E9EC0E5FE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3BA8-2828-411E-B193-990A9AC8A5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C56E-730F-420F-B6EB-CC9D2C6704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E1A9-7350-4FD6-BBCC-BE0A2B71DB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D0E8-3465-40A2-BC94-1061AF0AAB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C9C6-8947-4C00-BA92-4C0BC19B5F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F20F-9F3E-41C4-AE1C-84E0EB10EB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2617-E90B-48BF-8BE8-7F2E40F761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84EE-EEFE-429A-99BA-B66480B0B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3217-036B-47BE-B064-AA577E801A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DCAA-1659-463E-AF23-FE8569400F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0BAC-2BCF-4BD9-9D40-1C112BDCBC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F59C-263C-4DF3-88A0-3E60710A94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7200-E8AA-4DE6-AA55-937C2D9D0B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A07-DED3-4552-8CD4-EF355D20E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AF25-29F1-4ED9-9ABF-B10E4ADB8E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A4B4-3DEC-4134-B026-FDDEF0E7B7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50D7-5C81-4615-B328-DAF348EBA1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FDEE-270B-4F32-8508-2373D4FD39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37B1-7612-4003-9C21-9492FFBFB8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AF0C-DFB6-41A1-88FA-B6B117E9AB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C263-A873-4D21-8134-0CC421D70F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C386-D72E-41E1-B35E-2091964CBD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1B2D-F31D-409F-B600-65484E886D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44AF-EA63-4FAA-86D2-E0C2BF2E6F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2F7C-CBEB-40C0-8946-63853FF701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471760" y="2109960"/>
            <a:ext cx="4105080" cy="7142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3114720" y="2995560"/>
            <a:ext cx="2705040" cy="71460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433520" y="3848040"/>
            <a:ext cx="6296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6737" descr=""/>
          <p:cNvPicPr/>
          <p:nvPr/>
        </p:nvPicPr>
        <p:blipFill>
          <a:blip r:embed="rId1"/>
          <a:stretch/>
        </p:blipFill>
        <p:spPr>
          <a:xfrm>
            <a:off x="566640" y="1019160"/>
            <a:ext cx="8010720" cy="481968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6738"/>
          <p:cNvSpPr/>
          <p:nvPr/>
        </p:nvSpPr>
        <p:spPr>
          <a:xfrm>
            <a:off x="7867800" y="1628640"/>
            <a:ext cx="40464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5718" descr=""/>
          <p:cNvPicPr/>
          <p:nvPr/>
        </p:nvPicPr>
        <p:blipFill>
          <a:blip r:embed="rId1"/>
          <a:stretch/>
        </p:blipFill>
        <p:spPr>
          <a:xfrm>
            <a:off x="547560" y="1386000"/>
            <a:ext cx="8048880" cy="408600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5719"/>
          <p:cNvSpPr/>
          <p:nvPr/>
        </p:nvSpPr>
        <p:spPr>
          <a:xfrm>
            <a:off x="7839000" y="3895560"/>
            <a:ext cx="40500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4689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10720" cy="352404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14690"/>
          <p:cNvSpPr/>
          <p:nvPr/>
        </p:nvSpPr>
        <p:spPr>
          <a:xfrm>
            <a:off x="7772400" y="2343240"/>
            <a:ext cx="4046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13665" descr=""/>
          <p:cNvPicPr/>
          <p:nvPr/>
        </p:nvPicPr>
        <p:blipFill>
          <a:blip r:embed="rId1"/>
          <a:stretch/>
        </p:blipFill>
        <p:spPr>
          <a:xfrm>
            <a:off x="511200" y="736560"/>
            <a:ext cx="1533600" cy="343080"/>
          </a:xfrm>
          <a:prstGeom prst="rect">
            <a:avLst/>
          </a:prstGeom>
          <a:ln w="0">
            <a:noFill/>
          </a:ln>
        </p:spPr>
      </p:pic>
      <p:pic>
        <p:nvPicPr>
          <p:cNvPr id="1467" name="图片 113666" descr=""/>
          <p:cNvPicPr/>
          <p:nvPr/>
        </p:nvPicPr>
        <p:blipFill>
          <a:blip r:embed="rId2"/>
          <a:stretch/>
        </p:blipFill>
        <p:spPr>
          <a:xfrm>
            <a:off x="1268280" y="1101600"/>
            <a:ext cx="2934000" cy="343080"/>
          </a:xfrm>
          <a:prstGeom prst="rect">
            <a:avLst/>
          </a:prstGeom>
          <a:ln w="0">
            <a:noFill/>
          </a:ln>
        </p:spPr>
      </p:pic>
      <p:pic>
        <p:nvPicPr>
          <p:cNvPr id="1468" name="图片 113667" descr=""/>
          <p:cNvPicPr/>
          <p:nvPr/>
        </p:nvPicPr>
        <p:blipFill>
          <a:blip r:embed="rId3"/>
          <a:stretch/>
        </p:blipFill>
        <p:spPr>
          <a:xfrm>
            <a:off x="620640" y="1523880"/>
            <a:ext cx="7410600" cy="145728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113668" descr=""/>
          <p:cNvPicPr/>
          <p:nvPr/>
        </p:nvPicPr>
        <p:blipFill>
          <a:blip r:embed="rId4"/>
          <a:stretch/>
        </p:blipFill>
        <p:spPr>
          <a:xfrm>
            <a:off x="693720" y="3094200"/>
            <a:ext cx="7324920" cy="88560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113669" descr=""/>
          <p:cNvPicPr/>
          <p:nvPr/>
        </p:nvPicPr>
        <p:blipFill>
          <a:blip r:embed="rId5"/>
          <a:stretch/>
        </p:blipFill>
        <p:spPr>
          <a:xfrm>
            <a:off x="1293840" y="4059360"/>
            <a:ext cx="2638440" cy="333360"/>
          </a:xfrm>
          <a:prstGeom prst="rect">
            <a:avLst/>
          </a:prstGeom>
          <a:ln w="0">
            <a:noFill/>
          </a:ln>
        </p:spPr>
      </p:pic>
      <p:pic>
        <p:nvPicPr>
          <p:cNvPr id="1471" name="图片 113670" descr=""/>
          <p:cNvPicPr/>
          <p:nvPr/>
        </p:nvPicPr>
        <p:blipFill>
          <a:blip r:embed="rId6"/>
          <a:stretch/>
        </p:blipFill>
        <p:spPr>
          <a:xfrm>
            <a:off x="703440" y="4429080"/>
            <a:ext cx="7372080" cy="1428840"/>
          </a:xfrm>
          <a:prstGeom prst="rect">
            <a:avLst/>
          </a:prstGeom>
          <a:ln w="0">
            <a:noFill/>
          </a:ln>
        </p:spPr>
      </p:pic>
      <p:pic>
        <p:nvPicPr>
          <p:cNvPr id="1472" name="图片 113671" descr=""/>
          <p:cNvPicPr/>
          <p:nvPr/>
        </p:nvPicPr>
        <p:blipFill>
          <a:blip r:embed="rId7"/>
          <a:stretch/>
        </p:blipFill>
        <p:spPr>
          <a:xfrm>
            <a:off x="668160" y="5943600"/>
            <a:ext cx="73630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2641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91280" cy="354348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112642" descr=""/>
          <p:cNvPicPr/>
          <p:nvPr/>
        </p:nvPicPr>
        <p:blipFill>
          <a:blip r:embed="rId2"/>
          <a:stretch/>
        </p:blipFill>
        <p:spPr>
          <a:xfrm>
            <a:off x="1081080" y="4513320"/>
            <a:ext cx="7343640" cy="160956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2643"/>
          <p:cNvSpPr/>
          <p:nvPr/>
        </p:nvSpPr>
        <p:spPr>
          <a:xfrm>
            <a:off x="7715160" y="215280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11621" descr=""/>
          <p:cNvPicPr/>
          <p:nvPr/>
        </p:nvPicPr>
        <p:blipFill>
          <a:blip r:embed="rId1"/>
          <a:stretch/>
        </p:blipFill>
        <p:spPr>
          <a:xfrm>
            <a:off x="585720" y="1690560"/>
            <a:ext cx="7972560" cy="347688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11622"/>
          <p:cNvSpPr/>
          <p:nvPr/>
        </p:nvSpPr>
        <p:spPr>
          <a:xfrm>
            <a:off x="7267680" y="2905200"/>
            <a:ext cx="4046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1623"/>
          <p:cNvSpPr/>
          <p:nvPr/>
        </p:nvSpPr>
        <p:spPr>
          <a:xfrm>
            <a:off x="2871720" y="411480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1624"/>
          <p:cNvSpPr/>
          <p:nvPr/>
        </p:nvSpPr>
        <p:spPr>
          <a:xfrm>
            <a:off x="1835280" y="4714920"/>
            <a:ext cx="4046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0593" descr=""/>
          <p:cNvPicPr/>
          <p:nvPr/>
        </p:nvPicPr>
        <p:blipFill>
          <a:blip r:embed="rId1"/>
          <a:stretch/>
        </p:blipFill>
        <p:spPr>
          <a:xfrm>
            <a:off x="857160" y="1728720"/>
            <a:ext cx="7429680" cy="3400560"/>
          </a:xfrm>
          <a:prstGeom prst="rect">
            <a:avLst/>
          </a:prstGeom>
          <a:ln w="0">
            <a:noFill/>
          </a:ln>
        </p:spPr>
      </p:pic>
      <p:sp>
        <p:nvSpPr>
          <p:cNvPr id="1481" name="矩形 110594"/>
          <p:cNvSpPr/>
          <p:nvPr/>
        </p:nvSpPr>
        <p:spPr>
          <a:xfrm>
            <a:off x="1943280" y="1819440"/>
            <a:ext cx="4046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0595"/>
          <p:cNvSpPr/>
          <p:nvPr/>
        </p:nvSpPr>
        <p:spPr>
          <a:xfrm>
            <a:off x="1187280" y="242100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0596"/>
          <p:cNvSpPr/>
          <p:nvPr/>
        </p:nvSpPr>
        <p:spPr>
          <a:xfrm>
            <a:off x="3419640" y="2421000"/>
            <a:ext cx="4712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0597"/>
          <p:cNvSpPr/>
          <p:nvPr/>
        </p:nvSpPr>
        <p:spPr>
          <a:xfrm>
            <a:off x="2916360" y="3016080"/>
            <a:ext cx="40464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09569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058240" cy="422892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09570"/>
          <p:cNvSpPr/>
          <p:nvPr/>
        </p:nvSpPr>
        <p:spPr>
          <a:xfrm>
            <a:off x="7819920" y="377208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08545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458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07521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5762520" cy="2428920"/>
          </a:xfrm>
          <a:prstGeom prst="rect">
            <a:avLst/>
          </a:prstGeom>
          <a:ln w="0">
            <a:noFill/>
          </a:ln>
        </p:spPr>
      </p:pic>
      <p:pic>
        <p:nvPicPr>
          <p:cNvPr id="1489" name="图片 107522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7981920" cy="2209680"/>
          </a:xfrm>
          <a:prstGeom prst="rect">
            <a:avLst/>
          </a:prstGeom>
          <a:ln w="0">
            <a:noFill/>
          </a:ln>
        </p:spPr>
      </p:pic>
      <p:sp>
        <p:nvSpPr>
          <p:cNvPr id="1490" name="矩形 107523"/>
          <p:cNvSpPr/>
          <p:nvPr/>
        </p:nvSpPr>
        <p:spPr>
          <a:xfrm>
            <a:off x="7734240" y="430524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33520" y="1147680"/>
            <a:ext cx="80769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12390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81920" cy="971640"/>
          </a:xfrm>
          <a:prstGeom prst="rect">
            <a:avLst/>
          </a:prstGeom>
          <a:ln w="0">
            <a:noFill/>
          </a:ln>
        </p:spPr>
      </p:pic>
      <p:pic>
        <p:nvPicPr>
          <p:cNvPr id="1437" name="图片 123906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477200" cy="2676240"/>
          </a:xfrm>
          <a:prstGeom prst="rect">
            <a:avLst/>
          </a:prstGeom>
          <a:ln w="0">
            <a:noFill/>
          </a:ln>
        </p:spPr>
      </p:pic>
      <p:pic>
        <p:nvPicPr>
          <p:cNvPr id="1438" name="图片 123907" descr=""/>
          <p:cNvPicPr/>
          <p:nvPr/>
        </p:nvPicPr>
        <p:blipFill>
          <a:blip r:embed="rId3"/>
          <a:stretch/>
        </p:blipFill>
        <p:spPr>
          <a:xfrm>
            <a:off x="1403280" y="4581360"/>
            <a:ext cx="5572080" cy="2124360"/>
          </a:xfrm>
          <a:prstGeom prst="rect">
            <a:avLst/>
          </a:prstGeom>
          <a:ln w="0">
            <a:noFill/>
          </a:ln>
        </p:spPr>
      </p:pic>
      <p:sp>
        <p:nvSpPr>
          <p:cNvPr id="1439" name="矩形 123908"/>
          <p:cNvSpPr/>
          <p:nvPr/>
        </p:nvSpPr>
        <p:spPr>
          <a:xfrm>
            <a:off x="7696080" y="133344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288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29800" cy="541044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2882"/>
          <p:cNvSpPr/>
          <p:nvPr/>
        </p:nvSpPr>
        <p:spPr>
          <a:xfrm>
            <a:off x="7800840" y="133344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2883"/>
          <p:cNvSpPr/>
          <p:nvPr/>
        </p:nvSpPr>
        <p:spPr>
          <a:xfrm>
            <a:off x="7812000" y="4581360"/>
            <a:ext cx="40500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1857" descr=""/>
          <p:cNvPicPr/>
          <p:nvPr/>
        </p:nvPicPr>
        <p:blipFill>
          <a:blip r:embed="rId1"/>
          <a:stretch/>
        </p:blipFill>
        <p:spPr>
          <a:xfrm>
            <a:off x="557280" y="833400"/>
            <a:ext cx="8029440" cy="519120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1858"/>
          <p:cNvSpPr/>
          <p:nvPr/>
        </p:nvSpPr>
        <p:spPr>
          <a:xfrm>
            <a:off x="7812000" y="141300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1859"/>
          <p:cNvSpPr/>
          <p:nvPr/>
        </p:nvSpPr>
        <p:spPr>
          <a:xfrm>
            <a:off x="7885080" y="371628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0833" descr=""/>
          <p:cNvPicPr/>
          <p:nvPr/>
        </p:nvPicPr>
        <p:blipFill>
          <a:blip r:embed="rId1"/>
          <a:stretch/>
        </p:blipFill>
        <p:spPr>
          <a:xfrm>
            <a:off x="544680" y="981000"/>
            <a:ext cx="8010360" cy="343080"/>
          </a:xfrm>
          <a:prstGeom prst="rect">
            <a:avLst/>
          </a:prstGeom>
          <a:ln w="0">
            <a:noFill/>
          </a:ln>
        </p:spPr>
      </p:pic>
      <p:pic>
        <p:nvPicPr>
          <p:cNvPr id="1447" name="图片 120834" descr=""/>
          <p:cNvPicPr/>
          <p:nvPr/>
        </p:nvPicPr>
        <p:blipFill>
          <a:blip r:embed="rId2"/>
          <a:stretch/>
        </p:blipFill>
        <p:spPr>
          <a:xfrm>
            <a:off x="990720" y="1484280"/>
            <a:ext cx="7581960" cy="1571760"/>
          </a:xfrm>
          <a:prstGeom prst="rect">
            <a:avLst/>
          </a:prstGeom>
          <a:ln w="0">
            <a:noFill/>
          </a:ln>
        </p:spPr>
      </p:pic>
      <p:pic>
        <p:nvPicPr>
          <p:cNvPr id="1448" name="图片 120835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8067600" cy="26668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0836"/>
          <p:cNvSpPr/>
          <p:nvPr/>
        </p:nvSpPr>
        <p:spPr>
          <a:xfrm>
            <a:off x="7800840" y="151452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9809" descr=""/>
          <p:cNvPicPr/>
          <p:nvPr/>
        </p:nvPicPr>
        <p:blipFill>
          <a:blip r:embed="rId1"/>
          <a:stretch/>
        </p:blipFill>
        <p:spPr>
          <a:xfrm>
            <a:off x="511200" y="765000"/>
            <a:ext cx="8020080" cy="557244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9810"/>
          <p:cNvSpPr/>
          <p:nvPr/>
        </p:nvSpPr>
        <p:spPr>
          <a:xfrm>
            <a:off x="7696080" y="133344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19811"/>
          <p:cNvSpPr/>
          <p:nvPr/>
        </p:nvSpPr>
        <p:spPr>
          <a:xfrm>
            <a:off x="7740720" y="4797360"/>
            <a:ext cx="4046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18786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001000" cy="524160"/>
          </a:xfrm>
          <a:prstGeom prst="rect">
            <a:avLst/>
          </a:prstGeom>
          <a:ln w="0">
            <a:noFill/>
          </a:ln>
        </p:spPr>
      </p:pic>
      <p:pic>
        <p:nvPicPr>
          <p:cNvPr id="1454" name="图片 118787" descr=""/>
          <p:cNvPicPr/>
          <p:nvPr/>
        </p:nvPicPr>
        <p:blipFill>
          <a:blip r:embed="rId2"/>
          <a:stretch/>
        </p:blipFill>
        <p:spPr>
          <a:xfrm>
            <a:off x="8402760" y="826920"/>
            <a:ext cx="495000" cy="343080"/>
          </a:xfrm>
          <a:prstGeom prst="rect">
            <a:avLst/>
          </a:prstGeom>
          <a:ln w="0">
            <a:noFill/>
          </a:ln>
        </p:spPr>
      </p:pic>
      <p:pic>
        <p:nvPicPr>
          <p:cNvPr id="1455" name="图片 118788" descr=""/>
          <p:cNvPicPr/>
          <p:nvPr/>
        </p:nvPicPr>
        <p:blipFill>
          <a:blip r:embed="rId3"/>
          <a:stretch/>
        </p:blipFill>
        <p:spPr>
          <a:xfrm>
            <a:off x="411120" y="1405080"/>
            <a:ext cx="7991640" cy="479088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8789"/>
          <p:cNvSpPr/>
          <p:nvPr/>
        </p:nvSpPr>
        <p:spPr>
          <a:xfrm>
            <a:off x="7677000" y="3552840"/>
            <a:ext cx="4050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7761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15160" cy="584532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7762"/>
          <p:cNvSpPr/>
          <p:nvPr/>
        </p:nvSpPr>
        <p:spPr>
          <a:xfrm>
            <a:off x="7596360" y="1341360"/>
            <a:ext cx="40464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7763"/>
          <p:cNvSpPr/>
          <p:nvPr/>
        </p:nvSpPr>
        <p:spPr>
          <a:xfrm>
            <a:off x="7667640" y="4149720"/>
            <a:ext cx="4046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2:55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